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0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7B1CE-7E43-4D5D-8CB6-84F979BBF8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29016-B782-4686-BB19-6C9A650A3E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4653B-B5C4-49CF-92B8-E7206B65E1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5E64B-AB4B-49B1-8B64-6A91FAB4F3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D80D9-528A-4A64-B607-F9EE003ECB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B620E-5F0F-41A7-9371-9C4652CA0B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6DDA8-BD4F-453C-B3B2-BD6F3B55BB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2520D-983E-4E28-8AA9-B81EDBD33B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F1E3A-67D8-4BF7-8E0D-C6AB9C8411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C39E0-B42D-4ED0-81A1-EEB009F7B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2D8A4-2C95-445F-A0D3-22CBAC567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CB364-089D-409F-B665-0A5277898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A9052-C6EB-4A7A-A000-77D830DF8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2BA7A-FDED-419B-9B66-A56412604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B335A-723D-4789-8657-04953D2A5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2165F-B224-4B0C-85F3-FFFE80D24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9B598-1BD8-4D6A-85F0-5E61056C0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0A108-2509-4445-B2F2-A10F9D290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D25C3-5EF9-438D-ADA5-22E4DC3E8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94EE7-E3FB-4C9F-9510-EB4C892BE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285DC-8D21-42F1-AF57-0EF2B4C9F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954A4-E236-41F1-807A-E3EA1FA8D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4C255-3F73-4414-89C4-A1C2444C0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CDD0B-39C7-4F53-B332-C069FF604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1A904-2442-43A0-98DE-E23204585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DA4B5-ED0F-4209-BFEE-003EB9849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63890C-7BC7-4580-8DBA-38460495A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9EEE8A-C502-4DD1-9ED2-5EEEEFD2F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99D1E4-1B49-4AD9-AB09-05302D401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F9EAB6-C25F-47DA-93EF-FC19D8870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3B96B2-EC62-43B6-882D-0CE2045A2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48F59-8AEB-493E-B1B1-FA3A6B951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C88F73-1E32-4751-B15F-E93F890DC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558D46-ABD3-462A-8811-643CB4EF7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6429A0-0DF3-4E5D-BE2F-18B4FF03E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E7F896-1950-46DA-8D65-7C2468FDA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301B49-B139-48BF-A575-C977E85C7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1E4B03-9BB9-4B34-8E04-19E5EE68A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54060D-0F30-444D-ABB2-FA0DEBF25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AAE390-5223-4629-B013-17F8EB0D1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B81F3A-EE09-4E01-A5E1-4C13DE823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5B9F34-EF97-42F7-9A38-265AB8D85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12293-33CB-4212-B5AB-1697FB684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34F724-AE71-435E-9CC2-1D625F8BD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4FD594-5BB3-4917-81AC-DCDE915FD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54DC31-A457-427C-B8D1-659032FB7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17F679-90B4-488A-A6F6-14A9B11F7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C30AEE-57B0-47A2-BC5C-BCF491B44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D206CE-6057-4D81-B1CF-9D30A8E1E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A7C277-2A3A-4DDD-A7B6-C4E7017BB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117AB1-0CAC-4E88-B0E2-1862F98B3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58CDF3-F050-4906-B247-A5FB696C5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FA9A8E-7469-417A-8747-500102134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01464-9473-4C12-9F55-16B4E095C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221DE6-9014-49FC-9E7D-F972C05A9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430957-1982-433A-8543-F8AA40E68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C07B6C-2A93-45B4-84CE-2952F2283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BE2959-00DF-4D4D-B8DD-B0718083E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AEA3C8-FF18-457D-A5E1-0DAF58A09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396E28-73BC-4824-B49B-7D7A7518A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676AF1-4137-4D82-BCAE-ABBF9FA06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B2E38E-CF62-4464-82D7-A4FA78177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8A38ED-C925-4DD5-9640-E50C8B988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D739A6-9139-4FCB-B0D8-EAFFAAF6C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A380A-F60D-4A03-98FA-E0E3C16B7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180519-E3E8-4F02-B066-030A68388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4162A0-BE9F-4CD4-A556-E6A66AD60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62E00D-75ED-425D-843F-038971B21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E7D27C-0214-4C37-9CCD-25CFDE42C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CEFFD0-B411-47AF-8797-74ADC8B70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568076-A75F-4378-B1BC-79F513B24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4A0C04-08F3-4030-A9FE-3AD37AC2D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D03BBA-8D42-4651-8C21-952FC270D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0420EA-CA09-4AEE-B26D-4B7B713A7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40FD99-90F0-4D0D-970F-EC3B44080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9B06F-2337-4514-86E4-E06BE86C5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DEE486-7E84-49F6-9B55-D80C35A5F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A8EFFE-5CE6-4CB6-B020-748E52F30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9AA72A-8A55-4AA5-8194-07F909C4C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9CB3B5-7093-4C4B-9F1F-FFB98BB95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CFB1EA-C056-4217-BD99-2331AC66F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AD42BF-D674-4FFE-BE17-99ACBB297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AEC4BD-AAAA-4ABA-A2AD-9FC92ADF3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132866-C9B7-4819-8DA4-2327D518B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DE24FA-3285-42F5-9B9A-3918AA4AF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6FD0E4-5B4B-40C8-8471-C1E28B032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B2F39-4D38-40F6-8FF5-9AAEAC9E6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98658E-9DDB-48FD-A437-D8A1984DA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14659F-44A0-4C73-990D-1C289CF8F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61EA5B-FC44-438E-9DCD-126489C74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71D60E-D79D-43EB-BFDC-6B4830734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311A7F-0463-461D-9B6A-7D655C658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D89EEC-C92A-4D5C-8685-1C4ECBC8D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AC0379-CE9E-4A53-B53E-2157EEF8F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D095B5-45C7-4708-A304-AC6B9E4F6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DDFAC3-88D7-453A-A213-CB5424D20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FA3FFC-0A69-421F-A2C1-58590D0C9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C30D2-8844-48BD-8526-EA291781F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3B69EA-7360-43F9-8865-2CC2CB7BC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A424D4-04A3-45B2-BD7A-332919852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C9F410-6B2F-4175-94D6-E8AAD3788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AA75ED-DBA1-457B-A60D-DFF0C2EA1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5F6AF1-034F-45F7-A1FB-8545DE75C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A373BF-ABB8-4D09-A346-4C85E8A3E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DA116B-87CB-4082-A8FD-211F0639C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4978B-0F94-4422-9195-4EFC8AC94FFB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72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720"/>
                <a:gd name="textAreaBottom" fmla="*/ 487080 h 48672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4280" y="5236560"/>
              <a:ext cx="9093600" cy="786240"/>
            </a:xfrm>
            <a:custGeom>
              <a:avLst/>
              <a:gdLst>
                <a:gd name="textAreaLeft" fmla="*/ 0 w 9093600"/>
                <a:gd name="textAreaRight" fmla="*/ 9093960 w 9093600"/>
                <a:gd name="textAreaTop" fmla="*/ 0 h 786240"/>
                <a:gd name="textAreaBottom" fmla="*/ 786600 h 78624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828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8B3F0-42E1-4760-A468-5195B09C6CD6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7B75A-5D3E-43FE-82DB-CB2CAE8FA5DC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D8FAC-3DC2-4313-87A3-7F3EBBD89FAE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826AF-11A8-4B0B-AB3A-406FEAF9224F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D0ED9-D244-41EB-BD69-99BDC4B06392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242F3-1602-46A0-9D6D-39FBC93A6089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127FB-7D60-4750-AE99-A468FDD14C6B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Lucida Sans Unicode"/>
              </a:rPr>
              <a:t>KEY COMPONENTS OF AN EFFECTIVE SCIENTIFIC PAPER</a:t>
            </a: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“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Scientists are motivated by two things: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(1) to understand the world,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(2) to get credit for it”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• 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What determines the perceived quality of a 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scientific paper?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–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Originality and importance of idea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–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Effectiveness of communicat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–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Usefulness as a source of 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informat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0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68680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53880" indent="-24768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How scientists read papers!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– 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Title and abstract are for the search engines most readers will not go beyond the abstract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Figures , captions and tables must be self-contained a lot of readers go through those w/out reading the text. Some may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look for quick explanation in text, so discussion of figures/tables in text should jump at reader (start paragraphs with “Figure X shows ”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2" name="Title 2" descr=""/>
          <p:cNvPicPr/>
          <p:nvPr/>
        </p:nvPicPr>
        <p:blipFill>
          <a:blip r:embed="rId1"/>
          <a:stretch/>
        </p:blipFill>
        <p:spPr>
          <a:xfrm>
            <a:off x="281160" y="122400"/>
            <a:ext cx="870408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Make your figures attractive for use in presentations, both by you and others. If you wouldn’t use a figure in a presentation, then fix or delete the figure!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The take-home messages of the paper should be “in your face”, I.e., in abstract, in intro, in conclusions, to make sure the “skimming reader” gets the message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 txBox="1"/>
          <p:nvPr/>
        </p:nvSpPr>
        <p:spPr>
          <a:xfrm>
            <a:off x="457200" y="1676160"/>
            <a:ext cx="822960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– </a:t>
            </a:r>
            <a:r>
              <a:rPr b="1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First paragraph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: state succinctly the 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problem and the background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– </a:t>
            </a:r>
            <a:r>
              <a:rPr b="1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Second paragraph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: What  your 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paper/research is about, why you are 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doing it (purpose or objectives)and what 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you expect to find based upon your 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knowledge of the topic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6" name="Tit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4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 txBox="1"/>
          <p:nvPr/>
        </p:nvSpPr>
        <p:spPr>
          <a:xfrm>
            <a:off x="457200" y="15235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Lucida Sans Unicode"/>
              </a:rPr>
              <a:t>Abstract</a:t>
            </a:r>
            <a:r>
              <a:rPr b="1" lang="en-US" sz="2400" spc="-1" strike="noStrike">
                <a:solidFill>
                  <a:srgbClr val="ff0000"/>
                </a:solidFill>
                <a:latin typeface="Lucida Sans Unicode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is the most important part of the paper – many readers will read just that. Focus on essential ideas, essential numbers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One fact/idea per sentence. Everything that you would like the casual reader to remember should be there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Rule of thumb: In order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1- 2 sentences background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1 sentence: purpose of your study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1 – 2 sentences about your results: (summarize key findings : include key data or significant finding or trend of data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8" name="Title 2" descr=""/>
          <p:cNvPicPr/>
          <p:nvPr/>
        </p:nvPicPr>
        <p:blipFill>
          <a:blip r:embed="rId1"/>
          <a:stretch/>
        </p:blipFill>
        <p:spPr>
          <a:xfrm>
            <a:off x="341280" y="219240"/>
            <a:ext cx="8454960" cy="120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Lucida Sans Unicode"/>
              </a:rPr>
              <a:t>The Conclusion</a:t>
            </a:r>
            <a:r>
              <a:rPr b="0" lang="en-US" sz="3200" spc="-1" strike="noStrike">
                <a:solidFill>
                  <a:srgbClr val="ff0000"/>
                </a:solidFill>
                <a:latin typeface="Lucida Sans Unicode"/>
              </a:rPr>
              <a:t>:  </a:t>
            </a:r>
            <a:r>
              <a:rPr b="1" lang="en-US" sz="3200" spc="-1" strike="noStrike">
                <a:solidFill>
                  <a:srgbClr val="000000"/>
                </a:solidFill>
                <a:latin typeface="Lucida Sans Unicode"/>
              </a:rPr>
              <a:t>Gives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Lucida Sans Unicode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Lucida Sans Unicode"/>
              </a:rPr>
              <a:t>the take-home messages of your paper in a way that’s not as severely limited in space as the Abstract.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 Unicode"/>
              </a:rPr>
              <a:t>Readers who want to go beyond the Abstract may skim the paper and then zoom in on the Conclusions.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– 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First paragraph: quick summary of what you did and why you did it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– 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Successive paragraph extracting the take-home messages/findings and implications in the real world.  May make suggestions for further areas of study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3T21:27:28Z</dcterms:created>
  <dc:creator>Teri Osborne</dc:creator>
  <dc:description/>
  <dc:language>en-US</dc:language>
  <cp:lastModifiedBy> </cp:lastModifiedBy>
  <dcterms:modified xsi:type="dcterms:W3CDTF">2012-02-14T15:47:15Z</dcterms:modified>
  <cp:revision>6</cp:revision>
  <dc:subject/>
  <dc:title>HOW TO WRITE AN EFFECTIVE SCIENTIFIC PAPER</dc:title>
</cp:coreProperties>
</file>